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30A4-47EC-4D00-AE97-06AB23C2C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6A2B-6F86-450E-A1AF-541415A58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5778-0028-466B-9F95-EAC481F16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FEED-F2E0-4DFD-AFCA-9166E5116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97C7-B441-4632-8A2A-719C3EEFF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190A-CAED-4226-AE5B-4EC9E0244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D4C2-4FFB-4A91-AA91-12C828423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423D-170D-4F39-9A0E-078172A00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556E-CB0A-49D3-8367-F6FAFA43E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554B-2B75-4CEF-A080-B4E701C4B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13E3-C30E-4E81-B3A5-44D859944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9F23-EB92-450A-96A3-22F8DE686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3D8-A1F5-4B3F-9815-0F8135B5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7D3-90D1-4BB4-A681-A5DA7787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EE0-13C9-4181-94CD-19FAE352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CD1-5C1D-43E8-A3F2-77E13690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81C2-000F-43BF-A698-3042D45B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CE4B-AE44-454D-96E2-8FB98CF1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1F55-EBCC-41E4-AAAE-AFB0A9E5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28F-F326-4470-BE8E-EBC775CF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642-41B1-4023-9ED2-59D974BC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4380-11CF-4366-B494-8C74E625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D43-8951-4C88-9194-3A7E4C2F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331D-254A-4A9F-A81D-5D02A14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8FA5-B0B2-416A-937D-670A143CD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The Greenhouse Ef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Explain how natural processes involving greenhouse gases cause warming of Earth’s atmosphe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ment: Comparing a greenhouse to the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6320" y="1219320"/>
          <a:ext cx="8991360" cy="5387760"/>
        </p:xfrm>
        <a:graphic>
          <a:graphicData uri="http://schemas.openxmlformats.org/drawingml/2006/table">
            <a:tbl>
              <a:tblPr/>
              <a:tblGrid>
                <a:gridCol w="3014640"/>
                <a:gridCol w="3012840"/>
                <a:gridCol w="2963880"/>
              </a:tblGrid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0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1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oil, plants, other surfaces in 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olar 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eat inside 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lection of visible light off the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Vents in the 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: Comparing a greenhouse and the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320" y="1628640"/>
          <a:ext cx="8991360" cy="4162680"/>
        </p:xfrm>
        <a:graphic>
          <a:graphicData uri="http://schemas.openxmlformats.org/drawingml/2006/table">
            <a:tbl>
              <a:tblPr/>
              <a:tblGrid>
                <a:gridCol w="3014640"/>
                <a:gridCol w="3012840"/>
                <a:gridCol w="2963880"/>
              </a:tblGrid>
              <a:tr h="838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324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reenhouse G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1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, and/or chemical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3. Matter moves and changes to return a system to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0" y="12254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Energy Transf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0" y="6443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jason.org/uploads/PublicUploads/CuteSoft/EnergyTransfer.j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EnergyTransfer.jpg"/>
          <p:cNvPicPr/>
          <p:nvPr/>
        </p:nvPicPr>
        <p:blipFill>
          <a:blip r:embed="rId1"/>
          <a:stretch/>
        </p:blipFill>
        <p:spPr>
          <a:xfrm>
            <a:off x="838080" y="946080"/>
            <a:ext cx="760104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0" y="6443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blog.savcds.org/harrison/files/2010/03/675px-EM_Spectrum_Properties_edit.svg.p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675px-EM_Spectrum_Properties_edit.png"/>
          <p:cNvPicPr/>
          <p:nvPr/>
        </p:nvPicPr>
        <p:blipFill>
          <a:blip r:embed="rId1"/>
          <a:stretch/>
        </p:blipFill>
        <p:spPr>
          <a:xfrm>
            <a:off x="285840" y="888840"/>
            <a:ext cx="857232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3200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Solar radiation enters the Earth’s atmo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Earth’s surface converts solar radiation into he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Earth radiates heat to atmosp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Gases in atmosphere absorb the he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066680" y="65502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nwin.com/kids/images/pic.greenhouse_effect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pic.greenhouse_effect.jpg"/>
          <p:cNvPicPr/>
          <p:nvPr/>
        </p:nvPicPr>
        <p:blipFill>
          <a:blip r:embed="rId1"/>
          <a:stretch/>
        </p:blipFill>
        <p:spPr>
          <a:xfrm>
            <a:off x="3463920" y="685800"/>
            <a:ext cx="56800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53337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What type of energy reaches the Earth’s surf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. Visible Light and UV l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066680" y="65502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nwin.com/kids/images/pic.greenhouse_effect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pic.greenhouse_effect.jpg"/>
          <p:cNvPicPr/>
          <p:nvPr/>
        </p:nvPicPr>
        <p:blipFill>
          <a:blip r:embed="rId1"/>
          <a:stretch/>
        </p:blipFill>
        <p:spPr>
          <a:xfrm>
            <a:off x="1787400" y="674640"/>
            <a:ext cx="5680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53337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What type of energy is re-radiated by the Earth’s surf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. Infrare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066680" y="65502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nwin.com/kids/images/pic.greenhouse_effect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pic.greenhouse_effect.jpg"/>
          <p:cNvPicPr/>
          <p:nvPr/>
        </p:nvPicPr>
        <p:blipFill>
          <a:blip r:embed="rId1"/>
          <a:stretch/>
        </p:blipFill>
        <p:spPr>
          <a:xfrm>
            <a:off x="1787400" y="674640"/>
            <a:ext cx="5680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: Targ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eenhouse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6320" y="1371600"/>
          <a:ext cx="8991360" cy="5181480"/>
        </p:xfrm>
        <a:graphic>
          <a:graphicData uri="http://schemas.openxmlformats.org/drawingml/2006/table">
            <a:tbl>
              <a:tblPr/>
              <a:tblGrid>
                <a:gridCol w="4533840"/>
                <a:gridCol w="4457520"/>
              </a:tblGrid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Greenhouse Ef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oil, plants, other surfaces in 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olar rad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eat inside 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8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lection of visible light off the g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Vents in the green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7:17:11Z</dcterms:created>
  <dc:creator>Julie Libarkin</dc:creator>
  <dc:description/>
  <dc:language>en-US</dc:language>
  <cp:lastModifiedBy>Nicole LaDue</cp:lastModifiedBy>
  <dcterms:modified xsi:type="dcterms:W3CDTF">2010-12-16T18:39:42Z</dcterms:modified>
  <cp:revision>307</cp:revision>
  <dc:subject/>
  <dc:title>PowerPoint Presentation</dc:title>
</cp:coreProperties>
</file>